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ACA-01F7-4A67-A66D-0028577C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B01-70CE-4A36-A3A0-53224FA8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659-74D3-488D-9066-B1E32826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318-ECF1-4CE5-A64D-7C103223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3362-AEBE-40BE-8819-77E53F04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8D01-3A30-4601-982E-2A9F1DBF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1F61-FA91-46ED-B23E-1CC7144B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516C-1F28-432B-A079-A2D8BBE0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F773-B5EA-4100-9737-B364A5B7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0C0F-7FB0-4249-8597-EEF3A523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6D5D-FA43-4038-B0D6-DB56DE69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48D-22F9-436B-B764-2755E2C0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6FAB-E93F-413C-97D8-31239C65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B93E-E0D1-4900-9664-F6A7C2C5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D409-1E76-4AE1-BF0D-85943517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184A-648E-4C1D-9FFD-6AD6A618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AE60-3F74-4E0F-AB00-F004DAF9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2A9-C67F-4001-8E4F-2DDC4800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F3A-093F-4A8D-8C9A-23502D1C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075-6010-4B08-ADA2-F70B9DA9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743-5A65-4A42-BAD0-78AB3C21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11C-8420-4D27-AA50-8415BD1C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9032-FA2E-4575-9E84-20704D0D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865-A15B-453A-A5CD-AABAAE79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C959-E6C6-4FCD-96E2-77C6B7C830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8530-A753-4DF5-A786-E9A308F0D0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pg 225 #1-1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  for x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=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e that a calculator assumes all logs are base 1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og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 calculator to evalu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5 – Ln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ssignment: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age 236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#1-41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Lesson 3.2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45820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=1000(0.5)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/3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people be able to live in the area surrounding Chernobyl in 205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ill the area surrounding Chernobyl be considered safe for human habi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garithmic 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y = Log</a:t>
            </a:r>
            <a:r>
              <a:rPr b="0" lang="en-US" sz="83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8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xponential 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x = a</a:t>
            </a:r>
            <a:r>
              <a:rPr b="0" lang="en-US" sz="8300" spc="-1" strike="noStrike" baseline="30000">
                <a:solidFill>
                  <a:srgbClr val="ffffff"/>
                </a:solidFill>
                <a:latin typeface="Arial"/>
              </a:rPr>
              <a:t>y</a:t>
            </a:r>
            <a:endParaRPr b="0" lang="en-US" sz="8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atural Log 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29528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83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x = ln x   </a:t>
            </a: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(for x &gt; 0)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Arial"/>
              </a:rPr>
              <a:t>Note that the natural log and the number e “cancel” each other ou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the logarithm in exponential form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1 =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 =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ite the exponent in log for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6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5/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2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1:20:00Z</dcterms:created>
  <dc:creator>jnewman</dc:creator>
  <dc:description/>
  <dc:language>en-US</dc:language>
  <cp:lastModifiedBy>abeason</cp:lastModifiedBy>
  <dcterms:modified xsi:type="dcterms:W3CDTF">2009-06-02T16:02:09Z</dcterms:modified>
  <cp:revision>7</cp:revision>
  <dc:subject/>
  <dc:title>Lesson 3.2</dc:title>
</cp:coreProperties>
</file>